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3FB9-F0A9-4AC2-B88A-8A36975F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44BE-3FBC-4734-989B-6EF3C283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A1AC-1071-4563-9BDF-2A397554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EC51-E91A-4DC6-BB70-B40BF812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E1D0-013B-4C87-A579-1069F10D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1A88-E73E-4EC5-AC5B-C0AD01A3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8CF7-78F8-44E0-BFF9-441D22FD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BD7A-043F-4890-9FE2-F5F955EC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75C6-6292-4154-945C-450956C7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5499-06C8-4C57-AD1E-D0AA7BE5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A5A-E09B-4C88-B7EA-B3947CFA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A3DD-1778-4961-8FC0-FBC5FF0E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B253-B96B-4445-8F4B-032B693E2F8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4000" y="1916280"/>
            <a:ext cx="49687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1.2 </a:t>
            </a:r>
            <a:br>
              <a:rPr sz="4400"/>
            </a:b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Success With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c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eep Clue words in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can Quic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ake Accuracy your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Narrativ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ing that tells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ories and novels are the most common narrative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formation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ing that mainly gives information about a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r science or history text book are examples of informational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ersuasiv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ing that tries to convince you to do something or think in a certain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ditorials, letters to the editor, and advertisements are examples of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ersuasive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veryday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type of writing you see ever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od labels, text messaging, sets of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Reading Tex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e are going to look at 6 different types of reading pass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ki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arrativ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formational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suasiv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veryday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ki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ery fast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get the main ideas and a few but not all of the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prehension is intentionally lower; around 50-60% (60% high r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c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ading technique when you want to locate a single fact or a specific bit of information without reading ever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en do we use scan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c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en using a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ook to find an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r telephone numb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c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ing the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uide to find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pecific sh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wan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492360" y="1554120"/>
            <a:ext cx="565164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canning- How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ften scanning is done with material you know something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ing the phone book on 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know the names are arr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phabetically accord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ast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732720" y="270828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canning- How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Organization of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lphabe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ctionary, index of a boo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85640" indent="-4989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Nonalphabe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85640" indent="-49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V guide, (arranged by day and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isting of the top 40 songs arranged by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canning- How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Organization of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ewspaper and magazine articles with varying types of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must look at titles, subheadings, illus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Jason</cp:lastModifiedBy>
  <dcterms:modified xsi:type="dcterms:W3CDTF">2011-02-07T15:53:58Z</dcterms:modified>
  <cp:revision>38</cp:revision>
  <dc:subject/>
  <dc:title>Diapositiva 1</dc:title>
</cp:coreProperties>
</file>